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A2445-1931-4638-8CBE-49423ED9B4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5FE90-C31C-462E-A4BF-55C7FFC95E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1C8B9-EA80-4D33-8789-90C784AC6D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4E6BC-6A16-4926-9461-5565F5551F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74CA5-78A0-44E1-811D-DA957D2125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DE759-1809-4E25-86E3-077D4AE0DA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E420A-A66B-41C5-92A8-E79381C155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2E259-6558-4DEB-B051-69C4624E6E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A52A9-0FBF-478D-A0A7-48289DCFA4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A4ED5-344D-449A-860F-72384B00E1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48FC5-7B88-413B-B9EA-BCA5592162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9251B-9C1C-4FCE-926B-1066913099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7.2-</a:t>
            </a:r>
            <a:fld id="{8F29A0C5-928C-4262-A409-961E11ED612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2200" y="1622520"/>
            <a:ext cx="7839000" cy="40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7146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other compound tenses you have learned—the present perfect, the past perfect, and the future perfect—the conditional perfect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 condicional perfec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formed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st partici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36560" y="1581120"/>
            <a:ext cx="1676520" cy="563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3933720"/>
            <a:ext cx="8229600" cy="221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64830-473C-4382-887B-4C8DE428B97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84440"/>
            <a:ext cx="8229600" cy="318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E8AE7-4A0B-4BA2-8C05-5B026A94A9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ditional perfect is used to express an action that would have occurred, but didn’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2657520"/>
            <a:ext cx="8229600" cy="127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61A4F-2ACC-4346-B4BA-C3205B219B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36720" y="2157480"/>
          <a:ext cx="7269120" cy="4167000"/>
        </p:xfrm>
        <a:graphic>
          <a:graphicData uri="http://schemas.openxmlformats.org/drawingml/2006/table">
            <a:tbl>
              <a:tblPr/>
              <a:tblGrid>
                <a:gridCol w="7269120"/>
              </a:tblGrid>
              <a:tr h="1189080">
                <a:tc>
                  <a:txBody>
                    <a:bodyPr lIns="182880" rIns="182880" tIns="182880" bIns="1828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 las formas apropiadas del condicional perfecto de </a:t>
                      </a:r>
                      <a:br>
                        <a:rPr sz="2000"/>
                      </a:b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 verb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8e1fa"/>
                    </a:solidFill>
                  </a:tcPr>
                </a:tc>
              </a:tr>
              <a:tr h="3256560">
                <a:tc>
                  <a:txBody>
                    <a:bodyPr lIns="182880" rIns="182880" tIns="182880" bIns="182880" anchor="t">
                      <a:noAutofit/>
                    </a:bodyPr>
                    <a:p>
                      <a:pPr marL="457200" indent="-457200">
                        <a:spcBef>
                          <a:spcPts val="400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otros ____________________ (hacer) todos los quehacere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00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 ____________________ (apreciar) mi poesía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00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os ____________________ (pintar) un mural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00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ted ____________________ (tocar) el piano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00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as ____________________ (poner) la mesa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00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 y yo ____________________ (resolver) los problema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00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via y Alberto ____________________ (esculpir) una estatua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00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 ____________________ (presentar) el informe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00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tedes ____________________ (vivir) en el campo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00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ú ____________________ (abrir) la puert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1fa"/>
                    </a:solidFill>
                  </a:tcPr>
                </a:tc>
              </a:tr>
            </a:tbl>
          </a:graphicData>
        </a:graphic>
      </p:graphicFrame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2438640" cy="627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98120" y="320832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ff"/>
                </a:solidFill>
                <a:latin typeface="Comic Sans MS"/>
              </a:rPr>
              <a:t>habríamos h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5730D-4791-44B1-BDC5-CE58651ACE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3:56:05Z</dcterms:created>
  <dc:creator>Jason Miranda</dc:creator>
  <dc:description/>
  <dc:language>en-US</dc:language>
  <cp:lastModifiedBy>awagner</cp:lastModifiedBy>
  <dcterms:modified xsi:type="dcterms:W3CDTF">2007-03-29T19:28:03Z</dcterms:modified>
  <cp:revision>67</cp:revision>
  <dc:subject/>
  <dc:title>PowerPoint Presentation</dc:title>
</cp:coreProperties>
</file>